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7320" y="1510920"/>
            <a:ext cx="1143000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7320" y="5308200"/>
            <a:ext cx="11430000" cy="189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1" algn="ctr"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2" algn="ctr"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3" algn="ctr"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4" algn="ctr"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5" algn="ctr"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6" algn="ctr"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53712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0720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3251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7427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216036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53712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0720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3251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7427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216036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86960" y="2768400"/>
            <a:ext cx="527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44568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75276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09944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44612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179280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86960" y="2768400"/>
            <a:ext cx="527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44568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75276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09944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44612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179280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86960" y="1981080"/>
            <a:ext cx="5270760" cy="334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86960" y="5308560"/>
            <a:ext cx="5270760" cy="246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algn="ctr">
              <a:spcBef>
                <a:spcPts val="1199"/>
              </a:spcBef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algn="ctr">
              <a:spcBef>
                <a:spcPts val="1199"/>
              </a:spcBef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87320" y="7188120"/>
            <a:ext cx="114300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87320" y="8445600"/>
            <a:ext cx="1143000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algn="ctr">
              <a:spcBef>
                <a:spcPts val="1199"/>
              </a:spcBef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algn="ctr">
              <a:spcBef>
                <a:spcPts val="1199"/>
              </a:spcBef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946920" y="2768400"/>
            <a:ext cx="52704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44568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75276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09944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44612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179280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787320" y="1257480"/>
            <a:ext cx="11430000" cy="723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65160" indent="-57132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409760" indent="-57168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854360" indent="-57168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2298600" indent="-57132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2298600" indent="-571320">
              <a:spcBef>
                <a:spcPts val="42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2298600" indent="-571320">
              <a:spcBef>
                <a:spcPts val="42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87320" y="1510920"/>
            <a:ext cx="1143000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Group differences in intelligence test scores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87320" y="5308200"/>
            <a:ext cx="11430000" cy="189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pg. 341- 347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Ethnic similarities and differences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orrelation between race and intelligence 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“</a:t>
            </a: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e bell curve for Whites is centered roughly around IQ 100, the bell curve for American Blacks is roughly around 85”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ome think that different climates and survival challenges could have led to racial differences in aptitude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Gender similarities and differences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565920" indent="-56592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orrelation between sex (gender) and intelligence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65920" indent="-56592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Math and Spatial aptitudes: In math grades, the average girl surpasses the average boy. However, there is controversy about this: math prodigies have been almost all males and boys outnumber girls on SAT math scores.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65920" indent="-56592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Emotion-detecting ability: Females are better at detecting and reading emotions on people’s faces.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Bias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ontroversies over cultural bia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Is a test less valid for some groups than for others?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Is there a difference caused by cultural experience?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